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.gif" ContentType="image/gif"/>
  <Override PartName="/ppt/media/image11.jpeg" ContentType="image/jpeg"/>
  <Override PartName="/ppt/media/image9.gif" ContentType="image/gif"/>
  <Override PartName="/ppt/media/image8.wmf" ContentType="image/x-wmf"/>
  <Override PartName="/ppt/media/image7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3.jpeg" ContentType="image/jpeg"/>
  <Override PartName="/ppt/media/image20.gif" ContentType="image/gif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5.jpeg" ContentType="image/jpe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E6C85-9344-4D6D-9100-C3E85E8A563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3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在平时的学习中，你感受到压力了吗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是什么让你产生压力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学习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生活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还是其它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压力对你的心里带来什么影响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C48E-D574-44E5-A6E3-150313488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B593-91F3-48CC-ACF4-176643969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0CF4-6948-412F-BCCA-03072D164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1AAC-A8C0-4663-8F0E-F1E91391C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425BB6-6154-45D1-A187-89334D01E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F89124-D5D1-417B-A225-FFF19EE3C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50C35C-CB79-41EE-B3E8-F686B9009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1028B9-A5B1-464B-BDAE-BAAA73BA1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35B85B-8F11-4DCB-85D8-B000200C4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F906DA-2D6A-4CA5-BC87-88B578A6E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23A414-6AA3-473F-9631-E8F5D323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BD72-50C3-41FB-8B32-D01C59AED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1F80D9-4CC5-4A1D-8050-3E43177F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A2EE06-147C-4D0D-A9F3-1BD521A7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C1A397-277A-414E-968C-666F35E8C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F1DDDE-D7B5-4C63-BB75-AE1670F8F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BA4605-F4BE-4624-A61D-C4FCCA250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32560-E0DF-491E-ACCC-CEB6198AD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DB3D1-ADC1-481D-87FB-EAB092573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5C509-60E3-43A1-8EF6-48BB3BB97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AEA5D-7865-4E02-B891-C9147837D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DBECD-25C7-463C-9F1C-241B17F6A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D5F3-618D-44DE-BDBC-8C7BB1D43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85F81-4CD5-437D-BD68-3F00AF30B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E30EF-6F54-4987-974C-E1A9EBDE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EB5D3-767B-4E74-BBEF-D21521FC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41F52-24EA-473F-8ABF-ECAF65F3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9F838-776D-4A94-AF35-EC2C84EC9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76B14-6575-4834-B18D-3C1EED376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E6754-6C05-48AB-A0C7-A9B88075D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42D0-1162-4229-A9B9-F8FF0D558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84E3-0E9A-4282-BF0B-A9631E1B4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D1CF-E07A-4090-B16A-5070DC135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E203-4462-4793-A7C4-7AF0B953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FAC0-51E6-4412-83CC-D1C5EECE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B951-4674-4014-8DFB-58A9EDC4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346AD-E11C-4368-9EFE-259A750A5EA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6BDA0-E35D-472C-84A0-3071E749BBF9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4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0836E-42F6-46CD-91E5-B5C700152167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hyperlink" Target="file:///C:/Documents%20and%20Settings/Administrator/Local%20Settings/Temp/Rar$DI00.859/&#30495;&#24515;&#33521;&#38596;.swf" TargetMode="External"/><Relationship Id="rId3" Type="http://schemas.openxmlformats.org/officeDocument/2006/relationships/hyperlink" Target="file:///C:/Documents%20and%20Settings/Administrator/Local%20Settings/Temp/Rar$DI00.859/&#30495;&#24515;&#33521;&#38596;.swf" TargetMode="External"/><Relationship Id="rId4" Type="http://schemas.openxmlformats.org/officeDocument/2006/relationships/hyperlink" Target="file:///C:/Documents%20and%20Settings/Administrator/Local%20Settings/Temp/Rar$DI00.859/&#30495;&#24515;&#33521;&#38596;.swf" TargetMode="External"/><Relationship Id="rId5" Type="http://schemas.openxmlformats.org/officeDocument/2006/relationships/hyperlink" Target="file:///C:/Documents%20and%20Settings/Administrator/Local%20Settings/Temp/Rar$DI00.859/&#30495;&#24515;&#33521;&#38596;.swf" TargetMode="External"/><Relationship Id="rId6" Type="http://schemas.openxmlformats.org/officeDocument/2006/relationships/oleObject" Target="../embeddings/oleObject1.bin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2484360" y="1052640"/>
            <a:ext cx="6121440" cy="1019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隶书"/>
              </a:rPr>
              <a:t>人生路上甜苦和喜忧</a:t>
            </a:r>
            <a:br>
              <a:rPr sz="3200"/>
            </a:b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隶书"/>
              </a:rPr>
              <a:t>愿与你分担所有</a:t>
            </a:r>
            <a:br>
              <a:rPr sz="3200"/>
            </a:b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隶书"/>
              </a:rPr>
              <a:t>难免曾经跌倒和等候</a:t>
            </a:r>
            <a:br>
              <a:rPr sz="3200"/>
            </a:b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隶书"/>
              </a:rPr>
              <a:t>要勇敢的抬头</a:t>
            </a:r>
            <a:br>
              <a:rPr sz="3200"/>
            </a:b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隶书"/>
              </a:rPr>
              <a:t>谁愿常躲在避风的港口</a:t>
            </a:r>
            <a:br>
              <a:rPr sz="3200"/>
            </a:b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隶书"/>
              </a:rPr>
              <a:t>宁有波涛汹涌的自由</a:t>
            </a:r>
            <a:br>
              <a:rPr sz="3200"/>
            </a:b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隶书"/>
              </a:rPr>
              <a:t>愿是你心中灯塔的守候</a:t>
            </a:r>
            <a:br>
              <a:rPr sz="3200"/>
            </a:b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隶书"/>
              </a:rPr>
              <a:t>在迷雾中让你看透</a:t>
            </a:r>
            <a:br>
              <a:rPr sz="3200"/>
            </a:b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隶书"/>
              </a:rPr>
              <a:t>阳光总在风雨后</a:t>
            </a:r>
            <a:br>
              <a:rPr sz="3200"/>
            </a:b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隶书"/>
              </a:rPr>
              <a:t>乌云上有睛空</a:t>
            </a:r>
            <a:br>
              <a:rPr sz="3200"/>
            </a:b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隶书"/>
              </a:rPr>
              <a:t>珍惜所有的感动</a:t>
            </a:r>
            <a:br>
              <a:rPr sz="3200"/>
            </a:b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隶书"/>
              </a:rPr>
              <a:t>每一份希望在你手中</a:t>
            </a:r>
            <a:br>
              <a:rPr sz="3200"/>
            </a:b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隶书"/>
              </a:rPr>
              <a:t>阳光总在风雨后</a:t>
            </a:r>
            <a:br>
              <a:rPr sz="3200"/>
            </a:b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隶书"/>
              </a:rPr>
              <a:t>请相信有彩虹</a:t>
            </a:r>
            <a:br>
              <a:rPr sz="3200"/>
            </a:b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隶书"/>
              </a:rPr>
              <a:t>风风雨雨都接受</a:t>
            </a:r>
            <a:br>
              <a:rPr sz="3200"/>
            </a:b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隶书"/>
              </a:rPr>
              <a:t>我一直会在你的左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971640" y="0"/>
            <a:ext cx="7272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音乐《阳光总在风雨后》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graphicFrame>
        <p:nvGraphicFramePr>
          <p:cNvPr id="155" name="WindowsMediaPlayer1"/>
          <p:cNvGraphicFramePr/>
          <p:nvPr/>
        </p:nvGraphicFramePr>
        <p:xfrm>
          <a:off x="0" y="6400800"/>
          <a:ext cx="213372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6" name="WindowsMediaPlayer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400800"/>
                    <a:ext cx="2133720" cy="457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6" dur="5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609480" y="457200"/>
            <a:ext cx="67708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学习压力与学习效率的关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1143000"/>
            <a:ext cx="325764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适度的学习压力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可以激发人的干劲和潜能，提高学习效率；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没有学习压力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可能会使人失去动力，停滞不前；而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过度的学习压力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又会使人陷入焦虑，影响学习效率和已有水平的发挥。</a:t>
            </a:r>
            <a:r>
              <a:rPr b="0" lang="zh-CN" sz="3400" spc="-1" strike="noStrike">
                <a:solidFill>
                  <a:srgbClr val="0000cc"/>
                </a:solidFill>
                <a:latin typeface="华文新魏"/>
                <a:ea typeface="华文新魏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5029200" cy="31971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0" y="2666880"/>
            <a:ext cx="53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</a:rPr>
              <a:t>表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133720" y="5257800"/>
            <a:ext cx="202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</a:rPr>
              <a:t>压力水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900000" y="3213000"/>
            <a:ext cx="73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1600200"/>
            <a:ext cx="7774200" cy="26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    </a:t>
            </a:r>
            <a:r>
              <a:rPr b="0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无论你的学习压力属于何种程度，你都不用担心，因为压力是可以调节的。下面我们就来学习怎样与压力谈判吧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522936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2077920" y="457200"/>
            <a:ext cx="254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隶书"/>
              </a:rPr>
              <a:t>四、意识</a:t>
            </a:r>
            <a:r>
              <a:rPr b="1" lang="zh-CN" sz="4000" spc="-1" strike="noStrike">
                <a:solidFill>
                  <a:srgbClr val="333399"/>
                </a:solidFill>
                <a:latin typeface="华文彩云"/>
                <a:ea typeface="隶书"/>
              </a:rPr>
              <a:t>与压力谈判技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740320" y="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11d6"/>
                </a:solidFill>
                <a:latin typeface="Times New Roman"/>
                <a:ea typeface="幼圆"/>
              </a:rPr>
              <a:t>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0"/>
            <a:ext cx="5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26320" y="685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想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905120" y="6858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这件事，我难别人也难，所以别慌，让我想想，既然想不出来，先做别的题，回头再来做这件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622840" y="685800"/>
            <a:ext cx="352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真该死，这件事怎么做不到，万一做不好怎么办？不行，一定要做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29718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情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057400" y="30481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镇定、从容不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33880" y="2895480"/>
            <a:ext cx="5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急躁、冒汗、理不出头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41040" y="3809880"/>
            <a:ext cx="95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时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过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716920" y="3809880"/>
            <a:ext cx="188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会做的都做好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正仔细分析那件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116760" y="3733920"/>
            <a:ext cx="231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后面还有好多事情没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真心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60958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结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981080" y="60958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发挥实际水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38680" y="60958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发挥不出实际水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066680" y="28954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066680" y="373392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066680" y="480060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066680" y="601992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371600" y="762120"/>
            <a:ext cx="140004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心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819520" y="1143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733920" y="762120"/>
            <a:ext cx="141444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情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181480" y="12193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477120" y="838080"/>
            <a:ext cx="12189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行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5410080" y="1676520"/>
            <a:ext cx="14479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708360" y="2349360"/>
            <a:ext cx="144000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结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343400" y="15235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23880" y="3048120"/>
            <a:ext cx="73152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人与人之间只有很小的差异，但这种很小的差异却往往造成巨大的差异！很小的差异就是所具备的心态是积极的还是消极的，巨大的差异就是成功与失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拿破伦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希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>
            <a:lum bright="46000"/>
          </a:blip>
          <a:stretch/>
        </p:blipFill>
        <p:spPr>
          <a:xfrm>
            <a:off x="3886200" y="2819520"/>
            <a:ext cx="5257800" cy="40384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123560" y="22860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cc00"/>
                </a:solidFill>
                <a:latin typeface="Times New Roman"/>
              </a:rPr>
              <a:t>培养阳光心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187280" y="836640"/>
            <a:ext cx="7635960" cy="9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43000" y="1219320"/>
            <a:ext cx="74833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千万别认为是成绩影响了你的心态，而是要知道正是你的心态影响了成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077720" y="3048120"/>
            <a:ext cx="99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心态是一种惯性思维，是一种习惯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可以改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067680" cy="51055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0" y="0"/>
            <a:ext cx="91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"/>
              </a:rPr>
              <a:t>经典暗示语</a:t>
            </a:r>
            <a:r>
              <a:rPr b="1" lang="zh-CN" sz="4400" spc="-1" strike="noStrike">
                <a:solidFill>
                  <a:srgbClr val="ffcc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今天表现不错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,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明天我会更好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今天会更好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愿意做一些改变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让一切都好起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66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ffffff"/>
                </a:solidFill>
                <a:latin typeface="Arial"/>
              </a:rPr>
              <a:t>改变－－你该如何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134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33"/>
                </a:solidFill>
                <a:latin typeface="Arial"/>
                <a:ea typeface="华文行楷"/>
              </a:rPr>
              <a:t>改变你的态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行楷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行楷"/>
              </a:rPr>
              <a:t>换一个角度看问题，你会有不一样的感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4660920" cy="60199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4648320" y="380880"/>
            <a:ext cx="4235400" cy="601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2209320" y="380880"/>
            <a:ext cx="4876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ff"/>
                </a:solidFill>
                <a:latin typeface="Arial"/>
              </a:rPr>
              <a:t>你看到甚麼</a:t>
            </a:r>
            <a:r>
              <a:rPr b="1" lang="zh-TW" sz="4000" spc="-1" strike="noStrike">
                <a:solidFill>
                  <a:srgbClr val="3333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390840" y="17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133720" y="1066680"/>
            <a:ext cx="3809880" cy="47196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0" y="5791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333ff"/>
                </a:solidFill>
                <a:latin typeface="Arial"/>
              </a:rPr>
              <a:t>改变你的内心－从现在开始</a:t>
            </a:r>
            <a:br>
              <a:rPr sz="2200"/>
            </a:b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0" y="522936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1279440" y="1317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642320" y="22860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华文彩云"/>
                <a:ea typeface="隶书"/>
              </a:rPr>
              <a:t>五、出谋划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" y="990720"/>
            <a:ext cx="853452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父母对我期望很高，但我成绩不好，万一到时考不上好的大学，怎么办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想追逐别人的脚步，但总会觉得力不从心，就像无法逾越一样，甚至都想自暴自弃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水平考试要到了，又发了很多练习，担心到考试前也不能把练习做完， 平时还要学习其它主科，但又不想牺牲自己的课外活动时间和休息时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WindowsMediaPlayer1"/>
          <p:cNvGraphicFramePr/>
          <p:nvPr/>
        </p:nvGraphicFramePr>
        <p:xfrm>
          <a:off x="7020000" y="6402240"/>
          <a:ext cx="212400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6" name="WindowsMediaPlayer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20000" y="6402240"/>
                    <a:ext cx="2124000" cy="457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4292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Arial"/>
                <a:ea typeface="隶书"/>
              </a:rPr>
              <a:t>青春的磨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23520" y="2437920"/>
            <a:ext cx="720108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与压力谈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--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高二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(11)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班主题班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522936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1279440" y="1317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63400" y="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华文彩云"/>
                <a:ea typeface="隶书"/>
              </a:rPr>
              <a:t>几点建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28600" y="990720"/>
            <a:ext cx="853452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685800"/>
            <a:ext cx="89154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不要把目标定得高于自己能力所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相信付出就会有收获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正视现实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因为回避问题只会加重心理负担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最后使得情绪更为紧张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有效地分配时间，将学习任务或工作任务按轻重缓急编定先后次序，然后依次逐步完成，阶段性的成果可减低同时展开多份任务而又无法完成所带来的压力。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0" y="522936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228600" y="152280"/>
            <a:ext cx="84582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即使再忙，也要有必要而充分的睡眠，这对松弛绷紧的神经至关紧要，对于处在身体发育时期的学生来说尤为重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课余时应做适量运动，既可强健身体，亦可减压，或可在教室做一些简单的伸展运动，减轻肌肉疲劳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7.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遇到困扰或情绪低落时，可与家人或朋友倾诉，通过与同学，老师的沟通获得支持和关怀，亦可发泄情绪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522936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457200" y="762120"/>
            <a:ext cx="83534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改变不了环境，但你可以改变自己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改变不了事实，但你可以改变态度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改变不了过去，但你可以改变现在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不能控制他人，但你可以掌握自己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不能预知明天，但你可以把握今天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不能样样顺利，但你可以事事尽心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不能左右天气，但你可以改变心情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不能选择容貌，但你可以展现笑容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不能延伸生命的长度，但你可以决定生命的宽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换一副“眼镜”看世界，我们就会少些忧愁与烦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多些开心与快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666880" y="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行楷"/>
              </a:rPr>
              <a:t>勉励的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ea typeface="隶书"/>
                <a:hlinkClick r:id="rId2"/>
              </a:rPr>
              <a:t>合唱：</a:t>
            </a: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ea typeface="隶书"/>
                <a:hlinkClick r:id="rId3"/>
              </a:rPr>
              <a:t>《</a:t>
            </a: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ea typeface="隶书"/>
                <a:hlinkClick r:id="rId4"/>
              </a:rPr>
              <a:t>真心英雄</a:t>
            </a: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ea typeface="隶书"/>
                <a:hlinkClick r:id="rId5"/>
              </a:rPr>
              <a:t>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34440" y="1065240"/>
            <a:ext cx="3106800" cy="78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隶书"/>
              </a:rPr>
              <a:t>在我心中曾经有一个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隶书"/>
              </a:rPr>
              <a:t>要用歌声让你忘了所有的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隶书"/>
              </a:rPr>
              <a:t>灿烂星空谁是真的英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隶书"/>
              </a:rPr>
              <a:t>平凡的人们给我最多感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隶书"/>
              </a:rPr>
              <a:t>再没有恨也没有了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隶书"/>
              </a:rPr>
              <a:t>但愿人间处处都有爱的影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隶书"/>
              </a:rPr>
              <a:t>用我们的歌换你真心笑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隶书"/>
              </a:rPr>
              <a:t>祝福你的人生从此与众不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隶书"/>
              </a:rPr>
              <a:t>把握生命里的每一分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隶书"/>
              </a:rPr>
              <a:t>全力以赴我们心中的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隶书"/>
              </a:rPr>
              <a:t>不经历风雨怎么见彩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隶书"/>
              </a:rPr>
              <a:t>没有人能随随便便成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隶书"/>
              </a:rPr>
              <a:t>把握生命里每一次感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隶书"/>
              </a:rPr>
              <a:t>和心爱的朋友热情相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隶书"/>
              </a:rPr>
              <a:t>让真心的话和开心的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隶书"/>
              </a:rPr>
              <a:t>在你我的心里流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WindowsMediaPlayer1"/>
          <p:cNvGraphicFramePr/>
          <p:nvPr/>
        </p:nvGraphicFramePr>
        <p:xfrm>
          <a:off x="7023240" y="6095880"/>
          <a:ext cx="2106360" cy="455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60" name="WindowsMediaPlayer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023240" y="6095880"/>
                    <a:ext cx="2106360" cy="455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249" dur="5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162" name="x1pHew2XyUAb9ULNzOEIod-Zd3NiSNqEYy5I8GVO9knKsi4IL-chK5dJ3K1pOJsaDSnNykW7yZxZtcQXcLjHuKNTU8r0gTz86L3W-Tng5km0oyYpfWmacFgewJLB5YEzPsGnf0uaDF5tXo" descr="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5867280" y="0"/>
            <a:ext cx="298764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不要盯着不动，用很正常的眼神去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38088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华文行楷"/>
              </a:rPr>
              <a:t>一、心理小测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522936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57200" y="609480"/>
            <a:ext cx="80773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　　你看到这张静止的图片是不是在动呢？心理医生说，上面这个图片与心理承受力有关，你的心理承受力越强，图片转动越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如果你看到图片是静止不动的，证明你没有什么学习压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如果你看到图片中的花瓣是有一点点缓慢转动的，那就证明你存在着一定的学习压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如果你看到图片是高速旋转的，那说你目前正承受着较大的心理压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二、实话实说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--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学习压力大家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1523880"/>
            <a:ext cx="830556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小组活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请大家以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人小组为单位，相互诉说自己的压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班级分享意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请小组代表发言，说说自己的压力或同伴的压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5229360"/>
            <a:ext cx="9144000" cy="162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2" name="WindowsMediaPlayer1"/>
          <p:cNvGraphicFramePr/>
          <p:nvPr/>
        </p:nvGraphicFramePr>
        <p:xfrm>
          <a:off x="6637320" y="228600"/>
          <a:ext cx="2116080" cy="455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3" name="WindowsMediaPlayer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37320" y="228600"/>
                    <a:ext cx="2116080" cy="455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3333ff"/>
                </a:solidFill>
                <a:latin typeface="Arial"/>
              </a:rPr>
              <a:t>压力是不是一定不好</a:t>
            </a:r>
            <a:r>
              <a:rPr b="1" i="1" lang="en-US" sz="4400" spc="-1" strike="noStrike">
                <a:solidFill>
                  <a:srgbClr val="3333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932520" y="5019840"/>
            <a:ext cx="2211480" cy="18381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76320" y="1087200"/>
            <a:ext cx="9144000" cy="50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一艘货轮卸货后返航，在浩瀚的大海上，突然遭遇巨大风暴。惊慌失措的水手们，急得团团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老船长果断下令：“打开所有货仓，立刻往里面灌水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水手们担忧：“险上加险，不是自找死路吗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船长镇定地说：“大家见过根深干粗的树被暴风刮倒过吗？被刮倒的是没有根基的小树。”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水手们半信半疑地照着做了。虽然暴风巨浪依旧那么猛烈，但随着货仓里的水越来越满，货轮渐渐地平稳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船长告诉那些松了一口气的水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一只空木桶，是很容易被风打翻的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果装满水负重了，风是吹不倒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船上负重的时候，是最安全的时候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空船时，才是最危险的时候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23640" y="2649600"/>
            <a:ext cx="62658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其实我们每个人都是一只只在生活的海洋中航行的船，生活中的各种压力就是我们的负担，这些压力虽然有时会令我们疲累、烦躁，但它同时也是保证我们前进的动力，若没有这些压力，我们就很容易被生活的波浪打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1066320" y="914400"/>
            <a:ext cx="4753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故事感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97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97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0" y="5229360"/>
            <a:ext cx="9144000" cy="1628640"/>
          </a:xfrm>
          <a:prstGeom prst="rect">
            <a:avLst/>
          </a:prstGeom>
          <a:ln w="0">
            <a:noFill/>
          </a:ln>
        </p:spPr>
      </p:pic>
      <p:grpSp>
        <p:nvGrpSpPr>
          <p:cNvPr id="182" name=""/>
          <p:cNvGrpSpPr/>
          <p:nvPr/>
        </p:nvGrpSpPr>
        <p:grpSpPr>
          <a:xfrm>
            <a:off x="0" y="838080"/>
            <a:ext cx="9143640" cy="6019560"/>
            <a:chOff x="0" y="838080"/>
            <a:chExt cx="9143640" cy="6019560"/>
          </a:xfrm>
        </p:grpSpPr>
        <p:pic>
          <p:nvPicPr>
            <p:cNvPr id="183" name="" descr=""/>
            <p:cNvPicPr/>
            <p:nvPr/>
          </p:nvPicPr>
          <p:blipFill>
            <a:blip r:embed="rId3"/>
            <a:stretch/>
          </p:blipFill>
          <p:spPr>
            <a:xfrm>
              <a:off x="0" y="838080"/>
              <a:ext cx="9143640" cy="185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4"/>
            <a:stretch/>
          </p:blipFill>
          <p:spPr>
            <a:xfrm>
              <a:off x="0" y="2621520"/>
              <a:ext cx="9114120" cy="423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5" name=""/>
          <p:cNvSpPr/>
          <p:nvPr/>
        </p:nvSpPr>
        <p:spPr>
          <a:xfrm>
            <a:off x="1917000" y="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三、正确看待压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-360" y="456840"/>
            <a:ext cx="8915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仿宋_GB2312"/>
                <a:ea typeface="仿宋_GB2312"/>
              </a:rPr>
              <a:t>面对考试的压力，小晨、小晔、小玉各持什么态度</a:t>
            </a:r>
            <a:r>
              <a:rPr b="1" lang="zh-CN" sz="2800" spc="-1" strike="noStrike">
                <a:solidFill>
                  <a:srgbClr val="000066"/>
                </a:solidFill>
                <a:latin typeface="仿宋_GB2312"/>
                <a:ea typeface="仿宋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答：小晨对开始结果满不在乎，在学习上过于轻松。小晔对考试过度紧张，压力过大。小玉对考试既很重视，又善于将压力转化为动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仿宋_GB2312"/>
                <a:ea typeface="仿宋_GB2312"/>
              </a:rPr>
              <a:t>   </a:t>
            </a:r>
            <a:r>
              <a:rPr b="1" lang="zh-CN" sz="2800" spc="-1" strike="noStrike">
                <a:solidFill>
                  <a:srgbClr val="000066"/>
                </a:solidFill>
                <a:latin typeface="仿宋_GB2312"/>
                <a:ea typeface="仿宋_GB2312"/>
              </a:rPr>
              <a:t>不同的态度会对考试和考试成绩产生怎样的影响</a:t>
            </a:r>
            <a:r>
              <a:rPr b="1" lang="zh-CN" sz="2800" spc="-1" strike="noStrike">
                <a:solidFill>
                  <a:srgbClr val="000066"/>
                </a:solidFill>
                <a:latin typeface="仿宋_GB2312"/>
                <a:ea typeface="仿宋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答：小晨的满不在乎态度可能不利于学习的进步和考试成绩的提高。小晔的过度紧张，压力过大的态度反而影响到复习的效果，这样也会影响到自己水平的正常发挥。小玉对考试既很重视，又善于将压力转化为动力的态度，有利于将自己的潜能充分发挥出来，考出好成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9:54:13Z</dcterms:modified>
  <cp:revision>26</cp:revision>
  <dc:subject>主题班会课件(分28大类): http://shop62905894.taobao.com</dc:subject>
  <dc:title>主题班会课件(分28大类): http://shop62905894.taobao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